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5AF-CAA8-4608-A9BD-6BBFB8FE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353-7EE1-453E-BE4C-B99C157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3CF9D-6F73-45B8-A013-9D30D93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1F10F-38FF-44AE-ADDE-74A7E8A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48034-06AB-44A6-B765-368F2812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71AC-9442-4B4F-9DCF-14EBB21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C834-7BE6-436C-8F50-24C8E6B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F9A2-E4F4-4621-B71B-93B17F4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F5266-1E06-4014-B215-84FA116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159CE-10DA-4333-8039-47AD53CB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63C82-892F-43B3-BDD4-4F60D351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146D2-EE85-477A-BA24-9402714D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EFD-DA9D-4EC4-850A-486F7908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13301-35D0-4EB9-B9D5-A72B2A6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BC26B-B8B8-4FC7-9D44-EFB1B3A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3602-8CB9-441E-B29E-E36892E0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E6967-E315-4FCF-884A-C79E493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BFAF-4CBD-4A8D-A1C9-41973AD9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43922-33B3-496F-A008-CB7B903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52653-08ED-4856-8541-12E19A5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5C65F-1779-4E01-A60F-34DFCBFA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D1EA-750C-442C-8885-627E592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2C99-4E04-43DD-8960-7431641A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294-10A4-4D53-ADF4-B1926F75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7675D-660E-4A4A-9D09-A72A150D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657D5-3DC0-4F5B-BAD2-24B33B9F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B29BB-F1CD-4868-948A-520D758E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DCB5-0598-4DF7-A2F2-8421D21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BCE1A-935C-466A-8AFE-079D24A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B7162-8D21-4C77-9BA0-BE027E0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1062D-6805-41A9-8C9D-B6A2E8F7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4909-0CAE-4D58-8505-907E2C7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872E9-5312-4C6C-8F97-1A07433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C0969-41DD-446E-B7F6-49D4CF9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7093-2F9E-4AE1-97C5-784A7AE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2D22B-EBED-4725-A3A4-F3F772D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F1F23-356F-4E37-A903-F8CB000F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ADFF-F8C8-4047-8D75-A9F35265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FD82-4E97-4C42-87DD-ECC76458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D3B83-B812-4D78-A2EF-382A66C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1AC8E-5449-4F65-9141-2D64DE2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DD24D-65E0-4A6A-A9FB-A036642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B823F-0E7F-4B46-B776-652F1A2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41714-EC57-44CF-8835-7776243E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9916-11C1-4B8D-AA7C-B23A7AF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172-C7EE-4B55-94CB-5C3E76A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D864E-7127-491F-B0A8-2A89039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1AB1-3E47-4E2B-92B1-A6127E4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20990-5F25-4747-8E59-C97E2479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4A449-F50D-43CC-B3EC-8DBF00B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9BFA9-6EA2-4453-ACA0-D7300281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95FD-C73D-4382-8A4F-DA2DFC55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97E60-DA03-45EE-9508-C8DB6D7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4F0DA-2357-414B-B228-5BD37C1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FDF38-7056-41AE-A30A-B5D2F7E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5FB8C-8EE8-4F06-83C6-2C5A0FDF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E94-FD78-416B-8481-B11AF98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55BEF-94D5-4340-B9C2-2E3C35C8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745EE-264F-4696-9C37-5B3BACF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C33DE-EA30-4262-A9A2-F6B2DCD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5AB68-2F15-41D7-B2FF-8629459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91EFF-5617-425E-BBB9-FE11B0B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3A697-34C0-449C-9E07-2613791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01632-4C41-4720-AB43-9355ADE6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A474E-318A-4BAA-939C-EE480740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A8850-31FE-4B92-83A9-4572D095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FCC05-FB05-45E2-9B7F-93A24D17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5F1-7003-485E-B3B9-BE761AFB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B8AED-C94A-4288-8F3C-8FBF3E6E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E6A1F-C0AF-461E-9D9F-23BB433E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BB515-FA25-4E23-9525-1A5F0F05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D94E8-A2E5-42A0-8E71-AC0658AD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AB708-9C89-4680-8166-BDEA7E0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310DD-40F1-4FD0-BADA-32DD8FE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AC850-E1E3-4384-83F4-75D8A1F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ED6DF-D34D-4D44-BDC0-3D124A16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B45BB-2E33-4E18-9536-7FB7FB6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B4F9B-EE41-4402-82C4-7086F7F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652D-5707-4182-A5CF-85233A7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866FD-4867-45D2-B417-FBE2932F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0D1A4-26A2-4941-863D-B6A3F6F5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3E1C1-291F-41DB-BE1A-71BBA707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7C1DB-E305-4CD0-9502-0A359B6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59C50-3FE1-4655-A481-B82C6332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74CA4-A4A0-4BEF-B35E-EAE928B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815DC-B5DC-4DE6-BFEA-325D613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F5740-D470-456F-862C-9A87179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C1D75-51BC-4A86-8784-3358205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0445E-DC79-43B4-B1D1-7F918154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1F4-34BE-48C0-B134-9BFF2C87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EF324-20E0-4CC4-8C26-FDD3DAB2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CEDD4-F892-41A1-A724-DDD23F00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3D05B-3C92-4A61-813A-9576BDE4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E6701-465A-44C8-94DD-F3049163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0E422-5401-47B1-8A65-0B08B77C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1BC5D-F958-49AA-AFB7-7D65E5E6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5BA41-A05A-4C81-B9E4-1AB7B307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DB3FB-FA3F-461D-A197-CD06008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A90B8-7403-4D85-AD83-96EB3D2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63FFB-A5D2-4A9E-A7BB-9C92AAC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650-159B-4B31-A8E0-77768F9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70477-638F-4275-8CFF-B46DAB39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3991B-6AB1-4E0E-A9B4-F1A54B82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08B36-94C1-422A-80F8-398D74DC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CE06B-539E-4122-9D5F-35B930EF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F548B-850F-4CE9-9D97-838117D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B9945-4296-4A22-AF57-7DA9D0D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7EDF4-6E4B-40C9-BEB8-D24DF13B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10734-7BC3-444F-8F4C-BC2640D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602C0-BBE2-41A3-BD99-FF4941B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42F21-5E93-4AA0-B413-6C2FA45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AFA-CF61-4C3A-9DAB-71E5082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7F6-256A-4200-8064-D531E69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37B96-0495-4F33-9151-CBD7C51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55B75-F605-48B5-8D4F-4DA9A85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69A7D-F320-4D39-9DDE-D3EB2023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0BB9F-E821-4973-937C-8E69822D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BF48D-F7AC-48C7-A55C-1B48858B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B22FF-11AE-4472-B878-1E4F0EA4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83691-2EB7-4107-A916-C05EA351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A2847-6F03-43A5-BA91-3CAC71D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33B2B-60F2-4410-82C5-01EF787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7D368-87C5-4BC8-8F04-828F6D2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53A-6F70-43FC-B441-DBD3C0F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80FEA-A9EC-4F7E-A2A4-822D1BA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3AC31-3D50-4DC0-94E2-017BE5B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7EA92-4487-45FB-BA1B-81FAD37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C0B2A-6EE1-4396-8B37-116C9B4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F49EB-A5DC-4100-AC45-1C1EF2B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A707D-FA2E-4781-8AA8-F451191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14502-38E2-426A-A339-E0D15A44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BE150-65E9-47E1-B96E-3EEF311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AF914-3BD9-4AFE-9C56-8EFF700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D96B9-5D83-4393-B4B4-B20488D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174-D5C2-489F-A16C-6284309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47398-21A7-4679-AAA3-42D1AE5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C4B8C-58E1-4AF5-BFDF-845BA061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75119-9260-417C-A2D4-1344E5A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40E80-E376-49E7-A951-2893E7C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DD391-CA94-4C22-AD0C-FD3BA58A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310C6-960A-4F7B-A1AE-8FCA2179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C401B-DD70-4C9E-A954-7EC25DB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85CC5-B5A6-4F8E-815C-7D7A7EE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F9DF6-8A32-4B9B-B98E-4B389433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65172-F826-46D2-B42C-84DB8EEF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03E3-ABE4-4E7A-90DD-9F05564F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D1AFC-802B-4E4A-913B-B21CADD1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C5EE2-1873-4DB4-9076-987E299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C7CAD-7087-4383-9100-C4EA452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AB455-9EB2-459B-BDEE-235EDD97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873F9-A326-47FB-8564-521B0745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8F971-E2B5-4B92-A9D9-5C5E7A3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623B9-AFE2-4150-B167-6C394BE3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818A0-DCC2-42F2-8CF3-D7FF8CC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C6880-2D47-4C46-BE33-BAB6B14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15759-EA79-4801-995A-97964279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A9E-7FBE-4495-A55C-93BC3B8B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482C0-02E1-4722-94DB-B5211A03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6B05A-6769-4027-83C0-CD49B9F0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E5167-DE71-4AB2-8784-378DC4E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AA533-6CF9-4A7F-B439-8C1C5B5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152E2-9866-4A7B-88FC-3ACEA99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B971F-3B0C-4598-88AA-F485E73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85265-5EFA-457B-A431-6E07E4B5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55F8C-5137-4562-8832-CA7E4E8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94A5B-FAD2-4EAD-A09D-2A616A6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1E60E-70FF-4DE3-911E-0569513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952A-D360-4D78-8D82-FA73487E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6A5EC-2E7E-4A39-8A92-DF04DB15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3DEEA-C12A-4339-AA62-66F16B8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6B0C8-3187-44AC-A1E3-AFC1CD6E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7CEDD-F454-4522-BE20-AEF584C4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66816-EE2C-4C1D-A5DA-B416E683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EBE5AA-4351-4541-8989-6C35FAD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268C8-989C-444A-A38C-7231E7E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F1B3D-3FD4-4381-A707-122ADE0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D0399-1A72-477D-A61B-EA2DC1F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8771A0-DAA9-4D17-BBBC-4BBF0BA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9249-568E-4BE7-8F8C-EB6B1469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869F2-CAFF-4AAA-B216-5DB3FE9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91C486-AE05-465D-9440-755D398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714C21-ED0A-4182-AA43-57FEE9B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27090-854F-4A2C-BE38-2D25138F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542690-28CA-4B0F-AD26-29230CC3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A94DE-23DA-4B76-8027-3C31B4CF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A532A-0019-4E40-8FCB-C9E3211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EFEC2-B01A-440B-9DAA-71994529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52767-4DCF-4B58-B7A9-FC931DDA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44D3A9-51FB-4B13-8F63-74FA535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C584-53B7-421F-88EF-53A0C69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10226-19EF-4D55-B93C-352A7AA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F561D-B028-421E-8857-C884366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29EBA-C1DD-4B4E-8B71-E05D763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3FFF5D-F6C8-402B-ADAE-A3D9DC9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C06AB0-8287-4555-BF2E-DA51939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67311-6905-496F-9D39-D87ADB72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5A21F-24E9-4634-9628-8A0AAA4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4D63-ED3D-4792-A9BE-5829B2D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242D-2C2F-454E-9E2C-AA5A1ED6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849-9E07-47C7-810C-9874AAA9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2712-E489-4663-9E9C-E7498E4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2CB4-2A6F-4735-89CF-DB25626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B3D8-E61D-4173-9CD8-F318659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6D35-408F-4145-9689-F187253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72F2-7827-4292-8CD1-866454B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81E5-B3ED-4530-9F83-2AAB4DB2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4536-2DB6-41D5-B8B1-06AAFDAC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78BF-0640-4B01-A64D-F71F1C4A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8CB1-9A08-42FA-A994-F4342C8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9FF1-0194-45EE-96B9-C5C9E218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15D-7F11-4917-902E-777E802A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8660-2DA2-425F-872B-0A766463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AC5C-599C-48CE-AC9F-7EA2585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D9EE-3AF4-4D09-894D-A130525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81DA-8235-452B-ADB3-3172C31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C9A3-42F6-4860-83E2-2975CF9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82FE-1F18-44AD-9017-C1F75F1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9BF7-86E1-49E9-BDB4-AF9D747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DCE6-FD5E-4F78-A5D3-0A1B82C8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392C-5D1C-44D5-A469-F077382C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79CF0-DC15-4BBA-B85B-FD809B65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53A-9DCB-4B2F-9E97-50AFDC7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2178-B02B-4055-B120-B86BE64B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B965-468E-4AA6-9D28-0E2DE65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644A7-697B-44E9-871E-D65B57D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2A5A4-120A-47D6-AED2-93816CFF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8834-A46E-4619-A698-C59B780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27E3-1C71-4B7E-A33B-8B61FBD8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5FCF-8D01-48CE-868F-DDCD9F3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D6D8-2495-464A-B2F6-FDA9D47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287A5-E0E0-4BFC-831A-3DBC534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DF0D-FA17-44CB-B493-2FF1AFAB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FD0-CA8F-4C11-9045-FFCBA282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6D03-FEAC-4129-80F2-43FCD3EC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3168-3F35-483F-A044-5BCD6655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CF94-F0BA-403D-B399-24A714D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32BC-E37C-4FCF-8834-87F6EBA6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54AF-E159-47C2-B268-9737ACF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4526-2E9C-467E-A82F-D485BF52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0ED6-3CB7-4421-B175-E357CE9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CF3D-E63C-45C0-8692-99CFED5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D016-6FEA-48CC-AD36-91A64F6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5516-0324-4FD8-9CFF-D1E2D46F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2D4-5358-4A2C-8F9C-CAF59ED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81E1-4438-4BDE-A34C-F526D607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DFEA-7795-41A0-B384-6B5FA21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6D5A-234D-4B90-AF15-FAE7FE0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280B-44B0-42B2-89B8-1E0FEACB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7135-9AE9-4F49-B206-790A3B00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DCD2-482C-48D9-B33D-8CAA013F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C75E-A81F-40FD-B484-19803C5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17FD-BC4D-4953-A446-13EB290A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65A4-FC99-4E2B-8B20-C8E8114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5E96-424F-4065-8749-D96F725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5A2-D6DC-43DE-92CB-CA1ED27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651A-297C-4337-B7DF-EBE8ED2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5183C-DC90-4906-B62F-AE60B4A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C8146-3C9E-4C24-BC24-11A9C17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7A3A-BDD5-4D7A-AF46-EA897D38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97F51-CBD8-44FF-8409-03BAD0D9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B1DD-65D0-4D01-92DC-84158CF3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B1CB6-C259-4D51-9730-E58381B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EB963-2BCF-4738-AD74-DBFF2628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3EA7E-14D7-4EBB-A45D-BA8D76A8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2015-7DA2-4D35-9172-F88DA4C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8C2-0A71-41F6-85ED-1D6B937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1B9F7-1086-44C4-BD5F-22574EB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F2A2-AE1F-4D50-BB4A-1DB07E6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7A28-F1D7-4124-9AAD-EE5121FF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F044-49BE-4A7F-9BCC-7E8EF2C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33E9B-8D2F-4BB0-8C95-26C53A85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2371-167A-4562-B55E-2B812978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1C14-D8D9-4EDA-B4FB-C8307447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C810-1833-4C7C-B0DF-7E341986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1C67-DBB5-47D6-83FF-B2EB4B4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FBDD3-1D2D-4859-82A4-A64A53BE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B68-F462-428F-9F47-610F99AF2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5647-13C4-48D7-BC29-90133268D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D9CE-C23E-4E3D-9813-36B9DB9BA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1914-19CE-410C-B816-F0E47197B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FD3-9D8D-421E-B218-635DFFED73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AD0-9DB5-4B98-9E6C-BAD82FE8B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09C-8A20-4E7D-BD3C-362D0295DB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ECBA-67ED-4843-BB60-9D01C41A5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E035-529C-4DB2-BE50-171F2154F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AE7D-F3BC-426D-99BC-FC5C5F337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2BE-0F04-461D-8D8B-8290967B0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5EB-EF1A-4FEC-8F05-5EADAC563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3A80-FF1A-4EDC-BCCB-34DAE2620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7D10-CCA7-4B7B-AAEC-1BEC32D52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6D0-0373-477B-A6DB-1B7B995F8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E7C-BBBE-4889-8DB6-6120F65A8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F59-FFD3-45BB-AB31-7E246A7E3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8973-8C8F-4BEE-99DA-79D4FA2E3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409E-FD50-498D-B954-E6DB7720D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1AA-A62E-4ED8-8B6C-6F27A345F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5A9-1C2C-4B5A-81ED-4257EC24A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E9D-713F-4BE7-ADB0-A0155EAA95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4E3-6904-4330-91CB-FAF7B78BC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860-98F4-47F0-94E7-1C1A13A31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C52-0FA0-4F2D-A0D2-8C532BF2C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588-E1E8-4505-BE33-1AEA0D43FB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F5E-F9DE-40AF-B738-5035DF95E4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E1CF-C9D0-49B8-927F-44F296DAD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8D6-37CB-4B3E-93F2-A4C17A6F3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D2E-21B1-429C-8617-B26D4D27C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2464-49CB-4C85-9D64-840C8BD79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F92-7CB4-48B0-9985-495F040F8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56E5-96A6-4BBA-86F3-DFEA5D6A61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BFA-7F92-4DEA-B61E-02B8A7D115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18B-1B6E-4EFA-BEA2-A3D06808F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1D9A-8D48-4C65-AF50-C813FD231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B917-BE45-424F-BED6-3DD361101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8A25-62DF-40A8-826E-682A24A32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E241-16D5-4323-A6DB-1D35C773F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4B1-493E-46AF-8470-189321479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8F64-F4D4-42C5-B8B1-D5A7B8948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F0FE-1373-4A82-991C-5EE1DFC95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14400" y="2876400"/>
            <a:ext cx="73152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0200" y="835200"/>
            <a:ext cx="1714680" cy="3520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6320" y="1187280"/>
            <a:ext cx="8991360" cy="5362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44560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51577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585324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82520" y="1390680"/>
            <a:ext cx="6770880" cy="332424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6826320" y="2577960"/>
            <a:ext cx="2238480" cy="2314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403280" y="2627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340000" y="298764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843280" y="367344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340000" y="4021200"/>
            <a:ext cx="15112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4211640" y="4365720"/>
            <a:ext cx="936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68120" y="1235160"/>
            <a:ext cx="6799320" cy="308448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6818400" y="123516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3" descr=""/>
          <p:cNvPicPr/>
          <p:nvPr/>
        </p:nvPicPr>
        <p:blipFill>
          <a:blip r:embed="rId3"/>
          <a:stretch/>
        </p:blipFill>
        <p:spPr>
          <a:xfrm>
            <a:off x="168120" y="4421160"/>
            <a:ext cx="7628040" cy="714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84360" y="1882800"/>
            <a:ext cx="28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1835280" y="2584440"/>
            <a:ext cx="180000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712800" y="3284640"/>
            <a:ext cx="180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611280" y="3986280"/>
            <a:ext cx="180000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611280" y="4772160"/>
            <a:ext cx="2448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85840" y="1495440"/>
            <a:ext cx="8572320" cy="3867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684360" y="2185920"/>
            <a:ext cx="208728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6443640" y="2181240"/>
            <a:ext cx="504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4932360" y="2890800"/>
            <a:ext cx="172728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208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5508720" y="3573360"/>
            <a:ext cx="28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2340000" y="4290840"/>
            <a:ext cx="28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1908000" y="4984920"/>
            <a:ext cx="4319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6:4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